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media/image5.wmf" ContentType="image/x-wmf"/>
  <Override PartName="/ppt/media/image6.png" ContentType="image/png"/>
  <Override PartName="/ppt/media/image7.gif" ContentType="image/gi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481-C856-4988-995D-5D21C56D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A6D-1362-4915-9851-D4A13239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185-A174-4DFE-BF0E-5031E7C6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6CA-1DF2-4A63-BF3B-D9A8B921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22F2-7F02-4028-B842-17A51D4E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CFB7-F7BB-47F0-B1B1-A6EAB2A1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A318-6F27-4DB9-8A12-3D61578F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71FD-C406-4E4B-8051-04230747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D95F-20CF-4170-AC5D-908C080F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21D5-E6B8-460C-9628-81E25F1A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3626-DD64-4F43-92D4-FE568D74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852-1A20-4878-A780-647D2666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1CDE-67D1-4363-BDDE-D62B30C8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173E-8E44-4462-AEDA-20404594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E9E8-7E84-4EE4-8FE7-3F9139AB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DA10-F9E5-4D15-A34E-FC8B1AF9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0826-5B9D-4DA6-A26B-574E7CE0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3E3-9ADF-4D18-B732-8B5550D7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2ED-288E-4BD4-A63D-27183A18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BA7-D7D5-4F98-B4B9-4269BAB6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A55-11A7-424F-B17C-7DA3BDC8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E7B-83B0-4537-A6A4-48473F0E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849-2C2A-4423-BA75-C641E516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F18-AF0F-4A62-AE5A-E387E348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D116-0BAD-4859-B494-40F4C01986EC}" type="datetime5">
              <a:rPr b="0" lang="en-GB" sz="14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6EB9-41CF-48CC-BD91-5C864FF819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17F7-F1D2-4A8C-952A-E2E5A3D9A318}" type="datetime5">
              <a:rPr b="0" lang="en-GB" sz="14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E5A4-320B-4D4F-AC6B-315FEB3552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4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32BE-5F29-4C90-8584-47BBD7CB69FD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892240" y="2608200"/>
            <a:ext cx="38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f911"/>
                </a:solidFill>
                <a:latin typeface="Comic Sans MS"/>
                <a:ea typeface="Arial"/>
              </a:rPr>
              <a:t>Ordering integ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2189160" y="2608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9520" y="293760"/>
            <a:ext cx="624672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944080" y="327960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f911"/>
                </a:solidFill>
                <a:latin typeface="Comic Sans MS"/>
                <a:ea typeface="Arial"/>
              </a:rPr>
              <a:t>Add / Sub Mathematicall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2182680" y="32796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899080" y="3995640"/>
            <a:ext cx="44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f911"/>
                </a:solidFill>
                <a:latin typeface="Comic Sans MS"/>
                <a:ea typeface="Arial"/>
              </a:rPr>
              <a:t>Letters and Numb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2170080" y="399564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845440" y="4694400"/>
            <a:ext cx="43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f911"/>
                </a:solidFill>
                <a:latin typeface="Comic Sans MS"/>
                <a:ea typeface="Arial"/>
              </a:rPr>
              <a:t>Multiplying Integ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2170080" y="469440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2875320" y="539280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f911"/>
                </a:solidFill>
                <a:latin typeface="Comic Sans MS"/>
                <a:ea typeface="Arial"/>
              </a:rPr>
              <a:t>Dividing Integ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2170080" y="539280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4930-B65B-4647-AE07-C734D6FC8879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Oval 2"/>
          <p:cNvSpPr/>
          <p:nvPr/>
        </p:nvSpPr>
        <p:spPr>
          <a:xfrm>
            <a:off x="5435640" y="5943600"/>
            <a:ext cx="546120" cy="596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246400" y="444600"/>
            <a:ext cx="196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umb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5600880" y="74916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5600880" y="96516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5600880" y="118116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5600880" y="139716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5600880" y="161280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5600880" y="182880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5600880" y="204480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5600880" y="226044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5600880" y="24764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5600880" y="26924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5600880" y="29084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5600880" y="312408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5776560" y="2936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Text Box 21"/>
          <p:cNvSpPr/>
          <p:nvPr/>
        </p:nvSpPr>
        <p:spPr>
          <a:xfrm>
            <a:off x="5337720" y="226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70" name="Group 22"/>
          <p:cNvGrpSpPr/>
          <p:nvPr/>
        </p:nvGrpSpPr>
        <p:grpSpPr>
          <a:xfrm>
            <a:off x="5185080" y="574560"/>
            <a:ext cx="1021320" cy="1879560"/>
            <a:chOff x="5185080" y="574560"/>
            <a:chExt cx="1021320" cy="1879560"/>
          </a:xfrm>
        </p:grpSpPr>
        <p:sp>
          <p:nvSpPr>
            <p:cNvPr id="271" name="Text Box 23"/>
            <p:cNvSpPr/>
            <p:nvPr/>
          </p:nvSpPr>
          <p:spPr>
            <a:xfrm>
              <a:off x="5185080" y="5745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2" name="Text Box 24"/>
            <p:cNvSpPr/>
            <p:nvPr/>
          </p:nvSpPr>
          <p:spPr>
            <a:xfrm>
              <a:off x="5763600" y="8031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3" name="Text Box 25"/>
            <p:cNvSpPr/>
            <p:nvPr/>
          </p:nvSpPr>
          <p:spPr>
            <a:xfrm>
              <a:off x="5185080" y="9810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Text Box 26"/>
            <p:cNvSpPr/>
            <p:nvPr/>
          </p:nvSpPr>
          <p:spPr>
            <a:xfrm>
              <a:off x="5794920" y="1666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5" name="Text Box 27"/>
            <p:cNvSpPr/>
            <p:nvPr/>
          </p:nvSpPr>
          <p:spPr>
            <a:xfrm>
              <a:off x="5794920" y="1222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6" name="Text Box 28"/>
            <p:cNvSpPr/>
            <p:nvPr/>
          </p:nvSpPr>
          <p:spPr>
            <a:xfrm>
              <a:off x="5234400" y="1450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7" name="Text Box 29"/>
            <p:cNvSpPr/>
            <p:nvPr/>
          </p:nvSpPr>
          <p:spPr>
            <a:xfrm>
              <a:off x="5234400" y="1844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8" name="Text Box 30"/>
            <p:cNvSpPr/>
            <p:nvPr/>
          </p:nvSpPr>
          <p:spPr>
            <a:xfrm>
              <a:off x="5794920" y="2085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79" name="Text Box 31"/>
          <p:cNvSpPr/>
          <p:nvPr/>
        </p:nvSpPr>
        <p:spPr>
          <a:xfrm>
            <a:off x="5794920" y="2530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Text Box 32"/>
          <p:cNvSpPr/>
          <p:nvPr/>
        </p:nvSpPr>
        <p:spPr>
          <a:xfrm>
            <a:off x="533772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Text Box 33"/>
          <p:cNvSpPr/>
          <p:nvPr/>
        </p:nvSpPr>
        <p:spPr>
          <a:xfrm>
            <a:off x="5247720" y="3178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Rectangle 34"/>
          <p:cNvSpPr/>
          <p:nvPr/>
        </p:nvSpPr>
        <p:spPr>
          <a:xfrm>
            <a:off x="5600880" y="33638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Rectangle 35"/>
          <p:cNvSpPr/>
          <p:nvPr/>
        </p:nvSpPr>
        <p:spPr>
          <a:xfrm>
            <a:off x="5600880" y="35798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Rectangle 36"/>
          <p:cNvSpPr/>
          <p:nvPr/>
        </p:nvSpPr>
        <p:spPr>
          <a:xfrm>
            <a:off x="5600880" y="37958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Rectangle 37"/>
          <p:cNvSpPr/>
          <p:nvPr/>
        </p:nvSpPr>
        <p:spPr>
          <a:xfrm>
            <a:off x="5600880" y="401148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Rectangle 38"/>
          <p:cNvSpPr/>
          <p:nvPr/>
        </p:nvSpPr>
        <p:spPr>
          <a:xfrm>
            <a:off x="5600880" y="422748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Rectangle 39"/>
          <p:cNvSpPr/>
          <p:nvPr/>
        </p:nvSpPr>
        <p:spPr>
          <a:xfrm>
            <a:off x="5600880" y="444348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Rectangle 40"/>
          <p:cNvSpPr/>
          <p:nvPr/>
        </p:nvSpPr>
        <p:spPr>
          <a:xfrm>
            <a:off x="5600880" y="465948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5600880" y="487512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Rectangle 42"/>
          <p:cNvSpPr/>
          <p:nvPr/>
        </p:nvSpPr>
        <p:spPr>
          <a:xfrm>
            <a:off x="5600880" y="509112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Rectangle 43"/>
          <p:cNvSpPr/>
          <p:nvPr/>
        </p:nvSpPr>
        <p:spPr>
          <a:xfrm>
            <a:off x="5600880" y="530712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Rectangle 44"/>
          <p:cNvSpPr/>
          <p:nvPr/>
        </p:nvSpPr>
        <p:spPr>
          <a:xfrm>
            <a:off x="5600880" y="552276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Rectangle 45"/>
          <p:cNvSpPr/>
          <p:nvPr/>
        </p:nvSpPr>
        <p:spPr>
          <a:xfrm>
            <a:off x="5600880" y="573876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5839200" y="3392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Text Box 47"/>
          <p:cNvSpPr/>
          <p:nvPr/>
        </p:nvSpPr>
        <p:spPr>
          <a:xfrm>
            <a:off x="5197320" y="40784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96" name="Group 48"/>
          <p:cNvGrpSpPr/>
          <p:nvPr/>
        </p:nvGrpSpPr>
        <p:grpSpPr>
          <a:xfrm>
            <a:off x="5018040" y="4281480"/>
            <a:ext cx="1348920" cy="1968480"/>
            <a:chOff x="5018040" y="4281480"/>
            <a:chExt cx="1348920" cy="1968480"/>
          </a:xfrm>
        </p:grpSpPr>
        <p:sp>
          <p:nvSpPr>
            <p:cNvPr id="297" name="Text Box 49"/>
            <p:cNvSpPr/>
            <p:nvPr/>
          </p:nvSpPr>
          <p:spPr>
            <a:xfrm>
              <a:off x="5018040" y="588168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12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8" name="Text Box 50"/>
            <p:cNvSpPr/>
            <p:nvPr/>
          </p:nvSpPr>
          <p:spPr>
            <a:xfrm>
              <a:off x="5851080" y="55260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11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9" name="Text Box 51"/>
            <p:cNvSpPr/>
            <p:nvPr/>
          </p:nvSpPr>
          <p:spPr>
            <a:xfrm>
              <a:off x="5018040" y="53481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0" name="Text Box 52"/>
            <p:cNvSpPr/>
            <p:nvPr/>
          </p:nvSpPr>
          <p:spPr>
            <a:xfrm>
              <a:off x="5883120" y="47260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1" name="Text Box 53"/>
            <p:cNvSpPr/>
            <p:nvPr/>
          </p:nvSpPr>
          <p:spPr>
            <a:xfrm>
              <a:off x="5895720" y="51325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2" name="Text Box 54"/>
            <p:cNvSpPr/>
            <p:nvPr/>
          </p:nvSpPr>
          <p:spPr>
            <a:xfrm>
              <a:off x="5081400" y="49291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3" name="Text Box 55"/>
            <p:cNvSpPr/>
            <p:nvPr/>
          </p:nvSpPr>
          <p:spPr>
            <a:xfrm>
              <a:off x="5119200" y="4497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4" name="Text Box 56"/>
            <p:cNvSpPr/>
            <p:nvPr/>
          </p:nvSpPr>
          <p:spPr>
            <a:xfrm>
              <a:off x="5895720" y="4281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05" name="Text Box 57"/>
          <p:cNvSpPr/>
          <p:nvPr/>
        </p:nvSpPr>
        <p:spPr>
          <a:xfrm>
            <a:off x="5883120" y="38498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Text Box 58"/>
          <p:cNvSpPr/>
          <p:nvPr/>
        </p:nvSpPr>
        <p:spPr>
          <a:xfrm>
            <a:off x="5197320" y="3621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Text Box 59"/>
          <p:cNvSpPr/>
          <p:nvPr/>
        </p:nvSpPr>
        <p:spPr>
          <a:xfrm>
            <a:off x="1007280" y="2128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2 + 4 =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Text Box 60"/>
          <p:cNvSpPr/>
          <p:nvPr/>
        </p:nvSpPr>
        <p:spPr>
          <a:xfrm>
            <a:off x="1059840" y="35766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0 + ( - 8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Text Box 61"/>
          <p:cNvSpPr/>
          <p:nvPr/>
        </p:nvSpPr>
        <p:spPr>
          <a:xfrm>
            <a:off x="1144440" y="502452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7 – (- 10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Text Box 71"/>
          <p:cNvSpPr/>
          <p:nvPr/>
        </p:nvSpPr>
        <p:spPr>
          <a:xfrm>
            <a:off x="3123720" y="4122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Text Box 72"/>
          <p:cNvSpPr/>
          <p:nvPr/>
        </p:nvSpPr>
        <p:spPr>
          <a:xfrm>
            <a:off x="3246840" y="5532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Rectangle 76"/>
          <p:cNvSpPr/>
          <p:nvPr/>
        </p:nvSpPr>
        <p:spPr>
          <a:xfrm>
            <a:off x="3192840" y="2133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AutoShape 77"/>
          <p:cNvSpPr/>
          <p:nvPr/>
        </p:nvSpPr>
        <p:spPr>
          <a:xfrm>
            <a:off x="1257480" y="2857680"/>
            <a:ext cx="1244520" cy="761760"/>
          </a:xfrm>
          <a:prstGeom prst="cloudCallout">
            <a:avLst>
              <a:gd name="adj1" fmla="val 22958"/>
              <a:gd name="adj2" fmla="val -10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 at 1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AutoShape 78"/>
          <p:cNvSpPr/>
          <p:nvPr/>
        </p:nvSpPr>
        <p:spPr>
          <a:xfrm>
            <a:off x="2654280" y="2781360"/>
            <a:ext cx="1193760" cy="698400"/>
          </a:xfrm>
          <a:prstGeom prst="cloudCallout">
            <a:avLst>
              <a:gd name="adj1" fmla="val -37763"/>
              <a:gd name="adj2" fmla="val -8818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 up 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Cloud 81"/>
          <p:cNvSpPr/>
          <p:nvPr/>
        </p:nvSpPr>
        <p:spPr>
          <a:xfrm>
            <a:off x="6184800" y="584280"/>
            <a:ext cx="3111480" cy="270504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-” side by side replace by single “-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Cloud 82"/>
          <p:cNvSpPr/>
          <p:nvPr/>
        </p:nvSpPr>
        <p:spPr>
          <a:xfrm>
            <a:off x="6032520" y="4000680"/>
            <a:ext cx="3111480" cy="270504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-” side by side replace by single “+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Oval 83"/>
          <p:cNvSpPr/>
          <p:nvPr/>
        </p:nvSpPr>
        <p:spPr>
          <a:xfrm>
            <a:off x="2362320" y="3632040"/>
            <a:ext cx="711000" cy="393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Rectangle 84"/>
          <p:cNvSpPr/>
          <p:nvPr/>
        </p:nvSpPr>
        <p:spPr>
          <a:xfrm>
            <a:off x="2012040" y="412128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0 - 8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Text Box 61"/>
          <p:cNvSpPr/>
          <p:nvPr/>
        </p:nvSpPr>
        <p:spPr>
          <a:xfrm>
            <a:off x="2038680" y="5545080"/>
            <a:ext cx="13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7 + 1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Oval 86"/>
          <p:cNvSpPr/>
          <p:nvPr/>
        </p:nvSpPr>
        <p:spPr>
          <a:xfrm>
            <a:off x="2451240" y="5079960"/>
            <a:ext cx="711000" cy="393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Straight Connector 90"/>
          <p:cNvSpPr/>
          <p:nvPr/>
        </p:nvSpPr>
        <p:spPr>
          <a:xfrm>
            <a:off x="5587920" y="3365640"/>
            <a:ext cx="2541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DB53-0917-44D7-9EFD-4AB22B744061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3733920" y="2577960"/>
            <a:ext cx="1373040" cy="49536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3733920" y="3192480"/>
            <a:ext cx="1373040" cy="49536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3733920" y="3807000"/>
            <a:ext cx="1373040" cy="49500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3733920" y="4421160"/>
            <a:ext cx="1373040" cy="49536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3733920" y="5035680"/>
            <a:ext cx="1373040" cy="49500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3733920" y="5651640"/>
            <a:ext cx="1373040" cy="495000"/>
          </a:xfrm>
          <a:prstGeom prst="rect">
            <a:avLst/>
          </a:prstGeom>
          <a:solidFill>
            <a:srgbClr val="969696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3695760" y="2590920"/>
            <a:ext cx="13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1295280" y="2590920"/>
            <a:ext cx="21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)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 - 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1295280" y="320184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2)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 + (-9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1295280" y="381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3)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7 – (- 8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1295280" y="4425840"/>
            <a:ext cx="35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4)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 + (-12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1295280" y="5038560"/>
            <a:ext cx="35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5)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5 – (-25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1295280" y="56516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6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8 + (-9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1459080" y="188928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Text Box 21"/>
          <p:cNvSpPr/>
          <p:nvPr/>
        </p:nvSpPr>
        <p:spPr>
          <a:xfrm>
            <a:off x="3695760" y="3201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3695760" y="381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3695760" y="4425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1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Text Box 24"/>
          <p:cNvSpPr/>
          <p:nvPr/>
        </p:nvSpPr>
        <p:spPr>
          <a:xfrm>
            <a:off x="3695760" y="503856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2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Text Box 25"/>
          <p:cNvSpPr/>
          <p:nvPr/>
        </p:nvSpPr>
        <p:spPr>
          <a:xfrm>
            <a:off x="3695760" y="5651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Rectangle 27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egative Numbe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AutoShape 29"/>
          <p:cNvSpPr/>
          <p:nvPr/>
        </p:nvSpPr>
        <p:spPr>
          <a:xfrm>
            <a:off x="5372280" y="2387520"/>
            <a:ext cx="3606480" cy="3162240"/>
          </a:xfrm>
          <a:prstGeom prst="cloudCallout">
            <a:avLst>
              <a:gd name="adj1" fmla="val -43703"/>
              <a:gd name="adj2" fmla="val 6375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memb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-” = -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-” = +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3D03-4DF0-480F-B1B6-A6C776474763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2352600" y="2220840"/>
            <a:ext cx="5195880" cy="1922400"/>
          </a:xfrm>
          <a:prstGeom prst="rect">
            <a:avLst/>
          </a:prstGeom>
          <a:solidFill>
            <a:srgbClr val="0099cc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 try Ex 3.1 to 4.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2 (page 26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3056040" y="743040"/>
            <a:ext cx="3230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BAD8-BF96-4F64-99D6-186BF781B302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54" name="Picture 3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4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56" name="Object 5"/>
          <p:cNvGraphicFramePr/>
          <p:nvPr/>
        </p:nvGraphicFramePr>
        <p:xfrm>
          <a:off x="1041480" y="2270160"/>
          <a:ext cx="804204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1480" y="2270160"/>
                    <a:ext cx="8042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8" name="Picture 6" descr="Office Objects 0572"/>
          <p:cNvPicPr/>
          <p:nvPr/>
        </p:nvPicPr>
        <p:blipFill>
          <a:blip r:embed="rId5"/>
          <a:stretch/>
        </p:blipFill>
        <p:spPr>
          <a:xfrm>
            <a:off x="7385040" y="2271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52FC-05EB-4E29-8514-2E03D798998F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Created by Mr.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2" name="Picture 2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4" name="Picture 4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5057640" y="3992400"/>
            <a:ext cx="38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Solving expressions showing working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977760" y="30052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explain the process of working out expressions by substitution method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5057640" y="3005280"/>
            <a:ext cx="40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Understand process of substitution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A0E2-3CCF-49A5-A6DC-C908EA9BBF8B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Created by Mr.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Oval 2"/>
          <p:cNvSpPr/>
          <p:nvPr/>
        </p:nvSpPr>
        <p:spPr>
          <a:xfrm>
            <a:off x="1434960" y="2095560"/>
            <a:ext cx="685800" cy="7621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1549440" y="20829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2357280" y="2197080"/>
            <a:ext cx="61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f a = 2 and b = 14 evalua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2203560" y="38178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3067200" y="306864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a + b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3211560" y="378792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3067200" y="414828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3571920" y="414828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AutoShape 10"/>
          <p:cNvSpPr/>
          <p:nvPr/>
        </p:nvSpPr>
        <p:spPr>
          <a:xfrm>
            <a:off x="4219560" y="378792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4075200" y="414828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1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2419200" y="414828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2419200" y="5013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3067200" y="50133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5740560" y="3835440"/>
            <a:ext cx="190476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ub in a=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5740560" y="4444920"/>
            <a:ext cx="204444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ub in b=1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Text Box 18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91" name="Picture 19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1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23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AC2A-096C-480E-AA6A-EBF69BF19849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Created by Mr.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2166840" y="20829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f a = 3 and b = -9 evalua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1568520" y="36655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1803240" y="29210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Comic Sans MS"/>
              </a:rPr>
              <a:t>a - b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4013280" y="4051440"/>
            <a:ext cx="504180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member “- -” replace by “+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Text Box 11"/>
          <p:cNvSpPr/>
          <p:nvPr/>
        </p:nvSpPr>
        <p:spPr>
          <a:xfrm>
            <a:off x="1727280" y="391176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2260440" y="391176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2793960" y="3911760"/>
            <a:ext cx="130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(-9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1041480" y="39117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Text Box 16"/>
          <p:cNvSpPr/>
          <p:nvPr/>
        </p:nvSpPr>
        <p:spPr>
          <a:xfrm>
            <a:off x="1041480" y="47116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Text Box 17"/>
          <p:cNvSpPr/>
          <p:nvPr/>
        </p:nvSpPr>
        <p:spPr>
          <a:xfrm>
            <a:off x="1650960" y="4711680"/>
            <a:ext cx="184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3 + 9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Oval 18"/>
          <p:cNvSpPr/>
          <p:nvPr/>
        </p:nvSpPr>
        <p:spPr>
          <a:xfrm>
            <a:off x="1104840" y="2031840"/>
            <a:ext cx="685800" cy="762120"/>
          </a:xfrm>
          <a:prstGeom prst="ellipse">
            <a:avLst/>
          </a:prstGeom>
          <a:solidFill>
            <a:srgbClr val="99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1181160" y="203184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 Box 20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10" name="Picture 21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3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25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1066680" y="544824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1676520" y="5448240"/>
            <a:ext cx="184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A13E-F1BE-4261-835F-7F5FB61A6A69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Created by Mr.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Oval 16"/>
          <p:cNvSpPr/>
          <p:nvPr/>
        </p:nvSpPr>
        <p:spPr>
          <a:xfrm>
            <a:off x="990720" y="1892160"/>
            <a:ext cx="685800" cy="762120"/>
          </a:xfrm>
          <a:prstGeom prst="ellipse">
            <a:avLst/>
          </a:prstGeom>
          <a:solidFill>
            <a:srgbClr val="0099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17"/>
          <p:cNvSpPr/>
          <p:nvPr/>
        </p:nvSpPr>
        <p:spPr>
          <a:xfrm>
            <a:off x="1066680" y="189216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900080" y="20448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f a = 3 and b = 9 evalua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2006640" y="2717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– a</a:t>
            </a:r>
            <a:r>
              <a:rPr b="0" lang="en-GB" sz="4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4559400" y="3530520"/>
            <a:ext cx="4114800" cy="825480"/>
          </a:xfrm>
          <a:prstGeom prst="rect">
            <a:avLst/>
          </a:prstGeom>
          <a:solidFill>
            <a:srgbClr val="f54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member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eans b x 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1549440" y="340344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9x9 – 3x3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689120" y="4229280"/>
            <a:ext cx="8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8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2476440" y="420372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3060720" y="42544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1092240" y="42544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1117440" y="499104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1727280" y="49910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7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Text Box 18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31" name="Picture 19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1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23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4373-0EAF-4192-B6C0-EC10E4A1510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Created by Mr.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1055520" y="186228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f a = 5 and b = 6 evaluat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900000" y="29242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 + b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900000" y="407664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ab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900000" y="522936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3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5364000" y="29242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b - 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5364000" y="407664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5.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4b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5364000" y="522936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6.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3ab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3492360" y="292428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=1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3492360" y="407664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=30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3419640" y="5229360"/>
            <a:ext cx="12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=1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7885080" y="2924280"/>
            <a:ext cx="112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=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7885080" y="407664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=2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7885080" y="5229360"/>
            <a:ext cx="12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=90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" name="Text Box 17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1" name="Picture 18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0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22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57CA-4961-448A-9990-4F36F4C05291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Now try Exercise 5.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Ch2 (page 28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Q1 – Q4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9" name="Picture 4" descr="ag00463_"/>
          <p:cNvPicPr/>
          <p:nvPr/>
        </p:nvPicPr>
        <p:blipFill>
          <a:blip r:embed="rId2"/>
          <a:stretch/>
        </p:blipFill>
        <p:spPr>
          <a:xfrm>
            <a:off x="639720" y="3059280"/>
            <a:ext cx="3016440" cy="3100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scottishflag"/>
          <p:cNvPicPr/>
          <p:nvPr/>
        </p:nvPicPr>
        <p:blipFill>
          <a:blip r:embed="rId3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Office Objects 0572"/>
          <p:cNvPicPr/>
          <p:nvPr/>
        </p:nvPicPr>
        <p:blipFill>
          <a:blip r:embed="rId4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7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3006720" y="677880"/>
            <a:ext cx="30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bstitu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E7A6-9184-4E62-A744-719FE4967C4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6" name="Object 6"/>
          <p:cNvGraphicFramePr/>
          <p:nvPr/>
        </p:nvGraphicFramePr>
        <p:xfrm>
          <a:off x="3740040" y="2174760"/>
          <a:ext cx="2762280" cy="38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40040" y="2174760"/>
                    <a:ext cx="27622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7"/>
          <p:cNvSpPr/>
          <p:nvPr/>
        </p:nvSpPr>
        <p:spPr>
          <a:xfrm>
            <a:off x="1005480" y="2139840"/>
            <a:ext cx="27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1.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xplain wh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136160" y="2882880"/>
            <a:ext cx="61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2.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How many Euros do I get for £20 if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xchange rate is £1 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1.5 €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101240" y="4162320"/>
            <a:ext cx="75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3.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he answer to the question is 90. What is th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ues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34E2-083A-4922-9C20-71E594FD8492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Created by Mr.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7" name="Picture 2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9" name="Picture 4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5057640" y="3992400"/>
            <a:ext cx="38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Be able to tidy up like term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Rectangle 9"/>
          <p:cNvSpPr/>
          <p:nvPr/>
        </p:nvSpPr>
        <p:spPr>
          <a:xfrm>
            <a:off x="977760" y="3005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explain the process of tidying up expression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Text Box 11"/>
          <p:cNvSpPr/>
          <p:nvPr/>
        </p:nvSpPr>
        <p:spPr>
          <a:xfrm>
            <a:off x="5057640" y="3005280"/>
            <a:ext cx="40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Understand the term like term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1801440" y="677880"/>
            <a:ext cx="54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idying Up Like Term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C140-920A-4240-81DD-6DC1A4665A26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Created by Mr.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639880" y="677880"/>
            <a:ext cx="355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idying Term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82" name="Picture 4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37"/>
          <p:cNvSpPr/>
          <p:nvPr/>
        </p:nvSpPr>
        <p:spPr>
          <a:xfrm>
            <a:off x="1729080" y="2104920"/>
            <a:ext cx="6288840" cy="520560"/>
          </a:xfrm>
          <a:prstGeom prst="rect">
            <a:avLst/>
          </a:prstGeom>
          <a:solidFill>
            <a:srgbClr val="171717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ONLY TIDY UP “LIKE TERMS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TextBox 14"/>
          <p:cNvSpPr/>
          <p:nvPr/>
        </p:nvSpPr>
        <p:spPr>
          <a:xfrm>
            <a:off x="1234080" y="2895480"/>
            <a:ext cx="21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, 3 , 5, -6, 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TextBox 15"/>
          <p:cNvSpPr/>
          <p:nvPr/>
        </p:nvSpPr>
        <p:spPr>
          <a:xfrm>
            <a:off x="3696120" y="2895480"/>
            <a:ext cx="52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re like terms simple numb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TextBox 16"/>
          <p:cNvSpPr/>
          <p:nvPr/>
        </p:nvSpPr>
        <p:spPr>
          <a:xfrm>
            <a:off x="1343520" y="382284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, 3x , -2x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TextBox 17"/>
          <p:cNvSpPr/>
          <p:nvPr/>
        </p:nvSpPr>
        <p:spPr>
          <a:xfrm>
            <a:off x="3717720" y="38098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re like terms i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TextBox 18"/>
          <p:cNvSpPr/>
          <p:nvPr/>
        </p:nvSpPr>
        <p:spPr>
          <a:xfrm>
            <a:off x="1417320" y="4610160"/>
            <a:ext cx="19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3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-2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TextBox 19"/>
          <p:cNvSpPr/>
          <p:nvPr/>
        </p:nvSpPr>
        <p:spPr>
          <a:xfrm>
            <a:off x="3770280" y="459756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re like terms i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TextBox 20"/>
          <p:cNvSpPr/>
          <p:nvPr/>
        </p:nvSpPr>
        <p:spPr>
          <a:xfrm>
            <a:off x="2305080" y="5524560"/>
            <a:ext cx="4615920" cy="581400"/>
          </a:xfrm>
          <a:prstGeom prst="rect">
            <a:avLst/>
          </a:prstGeom>
          <a:solidFill>
            <a:srgbClr val="171717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is NOT the same a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CCC7-6EA7-449E-B0BA-C8E9A7BA9E1D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Created by Mr.Lafferty Maths Dept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2639880" y="677880"/>
            <a:ext cx="355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idying Term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7" name="Picture 4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499" name="TextBox 14"/>
          <p:cNvSpPr/>
          <p:nvPr/>
        </p:nvSpPr>
        <p:spPr>
          <a:xfrm>
            <a:off x="1176840" y="289548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– 2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TextBox 15"/>
          <p:cNvSpPr/>
          <p:nvPr/>
        </p:nvSpPr>
        <p:spPr>
          <a:xfrm>
            <a:off x="2992680" y="2895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TextBox 16"/>
          <p:cNvSpPr/>
          <p:nvPr/>
        </p:nvSpPr>
        <p:spPr>
          <a:xfrm>
            <a:off x="1211760" y="3728880"/>
            <a:ext cx="29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x – 4y – x – 2y =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TextBox 17"/>
          <p:cNvSpPr/>
          <p:nvPr/>
        </p:nvSpPr>
        <p:spPr>
          <a:xfrm>
            <a:off x="4102920" y="372600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x – 6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TextBox 18"/>
          <p:cNvSpPr/>
          <p:nvPr/>
        </p:nvSpPr>
        <p:spPr>
          <a:xfrm>
            <a:off x="1235520" y="456408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– x – y + 6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TextBox 19"/>
          <p:cNvSpPr/>
          <p:nvPr/>
        </p:nvSpPr>
        <p:spPr>
          <a:xfrm>
            <a:off x="4481280" y="455436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0x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– x - 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5" name="TextBox 21"/>
          <p:cNvSpPr/>
          <p:nvPr/>
        </p:nvSpPr>
        <p:spPr>
          <a:xfrm>
            <a:off x="1152720" y="19177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TextBox 23"/>
          <p:cNvSpPr/>
          <p:nvPr/>
        </p:nvSpPr>
        <p:spPr>
          <a:xfrm>
            <a:off x="1172520" y="5397480"/>
            <a:ext cx="33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6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– q – 3q + 6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TextBox 24"/>
          <p:cNvSpPr/>
          <p:nvPr/>
        </p:nvSpPr>
        <p:spPr>
          <a:xfrm>
            <a:off x="4427280" y="5384880"/>
            <a:ext cx="17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2p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– 4q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8C33-108E-418C-B059-2613B17E965E}" type="datetime5">
              <a:rPr b="0" lang="en-US" sz="11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2" name="Picture 3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4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14" name="Object 5"/>
          <p:cNvGraphicFramePr/>
          <p:nvPr/>
        </p:nvGraphicFramePr>
        <p:xfrm>
          <a:off x="1114560" y="2162160"/>
          <a:ext cx="6673680" cy="384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4560" y="2162160"/>
                    <a:ext cx="667368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6" name="Picture 6" descr="Office Objects 0572"/>
          <p:cNvPicPr/>
          <p:nvPr/>
        </p:nvPicPr>
        <p:blipFill>
          <a:blip r:embed="rId5"/>
          <a:stretch/>
        </p:blipFill>
        <p:spPr>
          <a:xfrm>
            <a:off x="7385040" y="2271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B818-0431-4C6E-9ED2-C0B7CD3C9FC4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0" name="Picture 2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2" name="Picture 4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977760" y="30448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1.   Explain how to multiply positive and negative integer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5537160" y="2892600"/>
            <a:ext cx="33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.  Understand how to multiply positive and negative integer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Rectangle 11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3523320" y="138420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ltiplicatio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F428-91C2-4A62-8FB6-F00EDAA61DD7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3" name="Picture 2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987840" y="28288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2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1105560" y="2041560"/>
            <a:ext cx="36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Multiplying Integer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944280" y="48880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8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961560" y="41911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3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3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939600" y="349236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4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5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Rectangle 21"/>
          <p:cNvSpPr/>
          <p:nvPr/>
        </p:nvSpPr>
        <p:spPr>
          <a:xfrm>
            <a:off x="3014640" y="284004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2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1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2" name="Rectangle 22"/>
          <p:cNvSpPr/>
          <p:nvPr/>
        </p:nvSpPr>
        <p:spPr>
          <a:xfrm>
            <a:off x="3015360" y="35053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 2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5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23"/>
          <p:cNvSpPr/>
          <p:nvPr/>
        </p:nvSpPr>
        <p:spPr>
          <a:xfrm>
            <a:off x="3043080" y="420228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5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5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4" name="Rectangle 24"/>
          <p:cNvSpPr/>
          <p:nvPr/>
        </p:nvSpPr>
        <p:spPr>
          <a:xfrm>
            <a:off x="3044880" y="485604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4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8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45" name="Picture 2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546" name="Line 28"/>
          <p:cNvSpPr/>
          <p:nvPr/>
        </p:nvSpPr>
        <p:spPr>
          <a:xfrm>
            <a:off x="2919240" y="2800440"/>
            <a:ext cx="1800" cy="2533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7" name="Text Box 14"/>
          <p:cNvSpPr/>
          <p:nvPr/>
        </p:nvSpPr>
        <p:spPr>
          <a:xfrm>
            <a:off x="7615080" y="1766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Text Box 19"/>
          <p:cNvSpPr/>
          <p:nvPr/>
        </p:nvSpPr>
        <p:spPr>
          <a:xfrm>
            <a:off x="6232680" y="44308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9" name="Group 44"/>
          <p:cNvGrpSpPr/>
          <p:nvPr/>
        </p:nvGrpSpPr>
        <p:grpSpPr>
          <a:xfrm>
            <a:off x="5268960" y="1947960"/>
            <a:ext cx="3722760" cy="4168800"/>
            <a:chOff x="5268960" y="1947960"/>
            <a:chExt cx="3722760" cy="4168800"/>
          </a:xfrm>
        </p:grpSpPr>
        <p:sp>
          <p:nvSpPr>
            <p:cNvPr id="550" name="Rectangle 16"/>
            <p:cNvSpPr/>
            <p:nvPr/>
          </p:nvSpPr>
          <p:spPr>
            <a:xfrm>
              <a:off x="5268960" y="1947960"/>
              <a:ext cx="3722760" cy="4168800"/>
            </a:xfrm>
            <a:prstGeom prst="rect">
              <a:avLst/>
            </a:prstGeom>
            <a:solidFill>
              <a:srgbClr val="080808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1" name="Text Box 17"/>
            <p:cNvSpPr/>
            <p:nvPr/>
          </p:nvSpPr>
          <p:spPr>
            <a:xfrm>
              <a:off x="6562440" y="2013120"/>
              <a:ext cx="134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Rules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2" name="Text Box 18"/>
            <p:cNvSpPr/>
            <p:nvPr/>
          </p:nvSpPr>
          <p:spPr>
            <a:xfrm>
              <a:off x="5475240" y="3166920"/>
              <a:ext cx="342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+ve </a:t>
              </a:r>
              <a:r>
                <a:rPr b="0" lang="en-GB" sz="3600" spc="-1" strike="noStrike">
                  <a:solidFill>
                    <a:srgbClr val="ff0000"/>
                  </a:solidFill>
                  <a:latin typeface="Comic Sans MS"/>
                </a:rPr>
                <a:t>x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-ve  = -ve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-ve </a:t>
              </a: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x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+ve  = -ve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3" name="Text Box 20"/>
            <p:cNvSpPr/>
            <p:nvPr/>
          </p:nvSpPr>
          <p:spPr>
            <a:xfrm>
              <a:off x="5299560" y="2655720"/>
              <a:ext cx="36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Multiplying Integers 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54" name="Text Box 31"/>
          <p:cNvSpPr/>
          <p:nvPr/>
        </p:nvSpPr>
        <p:spPr>
          <a:xfrm>
            <a:off x="3497040" y="138420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ltiplicatio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Text Box 32"/>
          <p:cNvSpPr/>
          <p:nvPr/>
        </p:nvSpPr>
        <p:spPr>
          <a:xfrm>
            <a:off x="5427360" y="4734000"/>
            <a:ext cx="365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-v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-ve  = +v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+v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+ve  = +v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Rectangle 35"/>
          <p:cNvSpPr/>
          <p:nvPr/>
        </p:nvSpPr>
        <p:spPr>
          <a:xfrm>
            <a:off x="2320920" y="2835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Rectangle 36"/>
          <p:cNvSpPr/>
          <p:nvPr/>
        </p:nvSpPr>
        <p:spPr>
          <a:xfrm>
            <a:off x="2282760" y="34639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Rectangle 37"/>
          <p:cNvSpPr/>
          <p:nvPr/>
        </p:nvSpPr>
        <p:spPr>
          <a:xfrm>
            <a:off x="2317680" y="4179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9" name="Rectangle 38"/>
          <p:cNvSpPr/>
          <p:nvPr/>
        </p:nvSpPr>
        <p:spPr>
          <a:xfrm>
            <a:off x="2270160" y="48769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4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Rectangle 39"/>
          <p:cNvSpPr/>
          <p:nvPr/>
        </p:nvSpPr>
        <p:spPr>
          <a:xfrm>
            <a:off x="4631760" y="2817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Rectangle 40"/>
          <p:cNvSpPr/>
          <p:nvPr/>
        </p:nvSpPr>
        <p:spPr>
          <a:xfrm>
            <a:off x="4704840" y="35067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Rectangle 41"/>
          <p:cNvSpPr/>
          <p:nvPr/>
        </p:nvSpPr>
        <p:spPr>
          <a:xfrm>
            <a:off x="4677120" y="4194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Rectangle 42"/>
          <p:cNvSpPr/>
          <p:nvPr/>
        </p:nvSpPr>
        <p:spPr>
          <a:xfrm>
            <a:off x="4672080" y="4834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5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6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874C-1AF1-4F1B-A900-6B86472F283E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7" name="Picture 2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1157760" y="2828880"/>
            <a:ext cx="23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2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10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1105560" y="2041560"/>
            <a:ext cx="36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Multiplying Integer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1119240" y="48880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5 - 19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1102680" y="419112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 – (-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1513440" y="349236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 + (-5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5" name="Picture 2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14"/>
          <p:cNvSpPr/>
          <p:nvPr/>
        </p:nvSpPr>
        <p:spPr>
          <a:xfrm>
            <a:off x="7615080" y="1766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6232680" y="44308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78" name="Group 44"/>
          <p:cNvGrpSpPr/>
          <p:nvPr/>
        </p:nvGrpSpPr>
        <p:grpSpPr>
          <a:xfrm>
            <a:off x="5268960" y="1947960"/>
            <a:ext cx="3722760" cy="4168800"/>
            <a:chOff x="5268960" y="1947960"/>
            <a:chExt cx="3722760" cy="4168800"/>
          </a:xfrm>
        </p:grpSpPr>
        <p:sp>
          <p:nvSpPr>
            <p:cNvPr id="579" name="Rectangle 16"/>
            <p:cNvSpPr/>
            <p:nvPr/>
          </p:nvSpPr>
          <p:spPr>
            <a:xfrm>
              <a:off x="5268960" y="1947960"/>
              <a:ext cx="3722760" cy="4168800"/>
            </a:xfrm>
            <a:prstGeom prst="rect">
              <a:avLst/>
            </a:prstGeom>
            <a:solidFill>
              <a:srgbClr val="080808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0" name="Text Box 17"/>
            <p:cNvSpPr/>
            <p:nvPr/>
          </p:nvSpPr>
          <p:spPr>
            <a:xfrm>
              <a:off x="6562440" y="2013120"/>
              <a:ext cx="134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Rules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1" name="Text Box 18"/>
            <p:cNvSpPr/>
            <p:nvPr/>
          </p:nvSpPr>
          <p:spPr>
            <a:xfrm>
              <a:off x="5475240" y="3166920"/>
              <a:ext cx="342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+ve </a:t>
              </a:r>
              <a:r>
                <a:rPr b="0" lang="en-GB" sz="3600" spc="-1" strike="noStrike">
                  <a:solidFill>
                    <a:srgbClr val="ff0000"/>
                  </a:solidFill>
                  <a:latin typeface="Comic Sans MS"/>
                </a:rPr>
                <a:t>x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-ve  = -ve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-ve </a:t>
              </a: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x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+ve  = -ve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2" name="Text Box 20"/>
            <p:cNvSpPr/>
            <p:nvPr/>
          </p:nvSpPr>
          <p:spPr>
            <a:xfrm>
              <a:off x="5299560" y="2655720"/>
              <a:ext cx="36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Multiplying Integers 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83" name="Text Box 31"/>
          <p:cNvSpPr/>
          <p:nvPr/>
        </p:nvSpPr>
        <p:spPr>
          <a:xfrm>
            <a:off x="3497040" y="138420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ltiplicatio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4" name="Text Box 32"/>
          <p:cNvSpPr/>
          <p:nvPr/>
        </p:nvSpPr>
        <p:spPr>
          <a:xfrm>
            <a:off x="5427360" y="4734000"/>
            <a:ext cx="365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-v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-ve  = +v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+v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+ve  = +v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5" name="Rectangle 35"/>
          <p:cNvSpPr/>
          <p:nvPr/>
        </p:nvSpPr>
        <p:spPr>
          <a:xfrm>
            <a:off x="3420000" y="2835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6" name="Rectangle 36"/>
          <p:cNvSpPr/>
          <p:nvPr/>
        </p:nvSpPr>
        <p:spPr>
          <a:xfrm>
            <a:off x="3273480" y="3463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7" name="Rectangle 37"/>
          <p:cNvSpPr/>
          <p:nvPr/>
        </p:nvSpPr>
        <p:spPr>
          <a:xfrm>
            <a:off x="2968200" y="4179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8" name="Rectangle 38"/>
          <p:cNvSpPr/>
          <p:nvPr/>
        </p:nvSpPr>
        <p:spPr>
          <a:xfrm>
            <a:off x="3684960" y="487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9" name="Cloud 36"/>
          <p:cNvSpPr/>
          <p:nvPr/>
        </p:nvSpPr>
        <p:spPr>
          <a:xfrm>
            <a:off x="698400" y="254160"/>
            <a:ext cx="2921040" cy="1295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member BOD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8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8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3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4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AF03-B88F-467E-9D83-E6AA5B03980E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2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MIA Ex 6.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2 (page 31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5" name="Picture 4" descr="ag00463_"/>
          <p:cNvPicPr/>
          <p:nvPr/>
        </p:nvPicPr>
        <p:blipFill>
          <a:blip r:embed="rId2"/>
          <a:stretch/>
        </p:blipFill>
        <p:spPr>
          <a:xfrm>
            <a:off x="639720" y="3059280"/>
            <a:ext cx="3016440" cy="31003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scottishflag"/>
          <p:cNvPicPr/>
          <p:nvPr/>
        </p:nvPicPr>
        <p:blipFill>
          <a:blip r:embed="rId3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6" descr="Office Objects 0572"/>
          <p:cNvPicPr/>
          <p:nvPr/>
        </p:nvPicPr>
        <p:blipFill>
          <a:blip r:embed="rId4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7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1938240" y="69228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3554640" y="13842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74FD-AFAB-4F1F-90EB-620C0BDCFC31}" type="datetime5">
              <a:rPr b="0" lang="en-US" sz="11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05" name="Picture 3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4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07" name="Object 5"/>
          <p:cNvGraphicFramePr/>
          <p:nvPr/>
        </p:nvGraphicFramePr>
        <p:xfrm>
          <a:off x="1000080" y="1941480"/>
          <a:ext cx="5946840" cy="424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1941480"/>
                    <a:ext cx="594684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9" name="Picture 6" descr="Office Objects 0572"/>
          <p:cNvPicPr/>
          <p:nvPr/>
        </p:nvPicPr>
        <p:blipFill>
          <a:blip r:embed="rId5"/>
          <a:stretch/>
        </p:blipFill>
        <p:spPr>
          <a:xfrm>
            <a:off x="7385040" y="2271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9350-07A1-45D8-A6D8-D58803EC1CDC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2" name="Rectangle 19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13" name="Picture 2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15" name="Picture 4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9" name="Rectangle 9"/>
          <p:cNvSpPr/>
          <p:nvPr/>
        </p:nvSpPr>
        <p:spPr>
          <a:xfrm>
            <a:off x="977760" y="30448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1.   Explain how to divide positive and negative integer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0" name="Rectangle 10"/>
          <p:cNvSpPr/>
          <p:nvPr/>
        </p:nvSpPr>
        <p:spPr>
          <a:xfrm>
            <a:off x="5537160" y="2892600"/>
            <a:ext cx="33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.  Understand how to divide positive and negative integer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Rectangle 11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3896640" y="13842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vis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3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3B96-F2A1-4C90-8BA9-DA54419B540A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029200" y="302580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To be put integers in order of siz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977760" y="30448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1.    To understand how to add positive and negative numbers using the thermometer as an aid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9520" y="293760"/>
            <a:ext cx="624672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DAF7-5279-48B4-B875-3C75D65C183C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26" name="Picture 2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1012680" y="282888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4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1123560" y="204156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Dividing Integer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910080" y="48880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2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955440" y="419112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3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3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929880" y="349236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24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6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4" name="Rectangle 21"/>
          <p:cNvSpPr/>
          <p:nvPr/>
        </p:nvSpPr>
        <p:spPr>
          <a:xfrm>
            <a:off x="3024000" y="284004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22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2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5" name="Rectangle 22"/>
          <p:cNvSpPr/>
          <p:nvPr/>
        </p:nvSpPr>
        <p:spPr>
          <a:xfrm>
            <a:off x="2999520" y="35053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 56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7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6" name="Rectangle 23"/>
          <p:cNvSpPr/>
          <p:nvPr/>
        </p:nvSpPr>
        <p:spPr>
          <a:xfrm>
            <a:off x="3002040" y="42022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15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5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7" name="Rectangle 24"/>
          <p:cNvSpPr/>
          <p:nvPr/>
        </p:nvSpPr>
        <p:spPr>
          <a:xfrm>
            <a:off x="3038760" y="485604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-4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8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8" name="Picture 2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639" name="Line 28"/>
          <p:cNvSpPr/>
          <p:nvPr/>
        </p:nvSpPr>
        <p:spPr>
          <a:xfrm>
            <a:off x="2919240" y="2800440"/>
            <a:ext cx="1800" cy="2533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7615080" y="1766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6232680" y="44308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42" name="Group 44"/>
          <p:cNvGrpSpPr/>
          <p:nvPr/>
        </p:nvGrpSpPr>
        <p:grpSpPr>
          <a:xfrm>
            <a:off x="5268960" y="1947960"/>
            <a:ext cx="3722760" cy="4168800"/>
            <a:chOff x="5268960" y="1947960"/>
            <a:chExt cx="3722760" cy="4168800"/>
          </a:xfrm>
        </p:grpSpPr>
        <p:sp>
          <p:nvSpPr>
            <p:cNvPr id="643" name="Rectangle 16"/>
            <p:cNvSpPr/>
            <p:nvPr/>
          </p:nvSpPr>
          <p:spPr>
            <a:xfrm>
              <a:off x="5268960" y="1947960"/>
              <a:ext cx="3722760" cy="4168800"/>
            </a:xfrm>
            <a:prstGeom prst="rect">
              <a:avLst/>
            </a:prstGeom>
            <a:solidFill>
              <a:srgbClr val="080808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4" name="Text Box 17"/>
            <p:cNvSpPr/>
            <p:nvPr/>
          </p:nvSpPr>
          <p:spPr>
            <a:xfrm>
              <a:off x="6562440" y="2013120"/>
              <a:ext cx="134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Rules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5" name="Text Box 18"/>
            <p:cNvSpPr/>
            <p:nvPr/>
          </p:nvSpPr>
          <p:spPr>
            <a:xfrm>
              <a:off x="5465520" y="3166920"/>
              <a:ext cx="344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+ve </a:t>
              </a:r>
              <a:r>
                <a:rPr b="0" lang="en-GB" sz="3600" spc="-1" strike="noStrike">
                  <a:solidFill>
                    <a:srgbClr val="ff0000"/>
                  </a:solidFill>
                  <a:latin typeface="Comic Sans MS"/>
                </a:rPr>
                <a:t>÷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-ve  = -ve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-ve </a:t>
              </a:r>
              <a:r>
                <a:rPr b="0" lang="en-GB" sz="3600" spc="-1" strike="noStrike">
                  <a:solidFill>
                    <a:srgbClr val="ff0000"/>
                  </a:solidFill>
                  <a:latin typeface="Comic Sans MS"/>
                </a:rPr>
                <a:t>÷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+ve  = -ve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6" name="Text Box 20"/>
            <p:cNvSpPr/>
            <p:nvPr/>
          </p:nvSpPr>
          <p:spPr>
            <a:xfrm>
              <a:off x="5299560" y="2655720"/>
              <a:ext cx="36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Multiplying Integers 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3871080" y="13842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vis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8" name="Text Box 32"/>
          <p:cNvSpPr/>
          <p:nvPr/>
        </p:nvSpPr>
        <p:spPr>
          <a:xfrm>
            <a:off x="5417280" y="473400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-ve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÷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-ve  = +v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+ve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÷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+ve  = +v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9" name="Rectangle 35"/>
          <p:cNvSpPr/>
          <p:nvPr/>
        </p:nvSpPr>
        <p:spPr>
          <a:xfrm>
            <a:off x="2320920" y="2835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0" name="Rectangle 36"/>
          <p:cNvSpPr/>
          <p:nvPr/>
        </p:nvSpPr>
        <p:spPr>
          <a:xfrm>
            <a:off x="2379600" y="3463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Rectangle 37"/>
          <p:cNvSpPr/>
          <p:nvPr/>
        </p:nvSpPr>
        <p:spPr>
          <a:xfrm>
            <a:off x="2295000" y="4179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2" name="Rectangle 38"/>
          <p:cNvSpPr/>
          <p:nvPr/>
        </p:nvSpPr>
        <p:spPr>
          <a:xfrm>
            <a:off x="2379600" y="4876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Rectangle 39"/>
          <p:cNvSpPr/>
          <p:nvPr/>
        </p:nvSpPr>
        <p:spPr>
          <a:xfrm>
            <a:off x="4728600" y="2817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4" name="Rectangle 40"/>
          <p:cNvSpPr/>
          <p:nvPr/>
        </p:nvSpPr>
        <p:spPr>
          <a:xfrm>
            <a:off x="4848480" y="3506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5" name="Rectangle 41"/>
          <p:cNvSpPr/>
          <p:nvPr/>
        </p:nvSpPr>
        <p:spPr>
          <a:xfrm>
            <a:off x="4770720" y="4194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6" name="Rectangle 42"/>
          <p:cNvSpPr/>
          <p:nvPr/>
        </p:nvSpPr>
        <p:spPr>
          <a:xfrm>
            <a:off x="4669200" y="48340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.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3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7" dur="8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8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4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5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6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2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3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3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4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5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1F50-DFA0-4B6E-B443-A14B515C8A97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9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0" name="Picture 2" descr="scottishflag"/>
          <p:cNvPicPr/>
          <p:nvPr/>
        </p:nvPicPr>
        <p:blipFill>
          <a:blip r:embed="rId2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3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141920" y="2828880"/>
            <a:ext cx="25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20)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10)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1129680" y="2041560"/>
            <a:ext cx="30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Division Integer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1127160" y="4888080"/>
            <a:ext cx="26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48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6 -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5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1127520" y="419112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0 - 36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1286280" y="349236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0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-5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8" name="Picture 2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4"/>
          <p:cNvSpPr/>
          <p:nvPr/>
        </p:nvSpPr>
        <p:spPr>
          <a:xfrm>
            <a:off x="7615080" y="1766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6232680" y="44308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1" name="Group 44"/>
          <p:cNvGrpSpPr/>
          <p:nvPr/>
        </p:nvGrpSpPr>
        <p:grpSpPr>
          <a:xfrm>
            <a:off x="5268960" y="1947960"/>
            <a:ext cx="3722760" cy="4168800"/>
            <a:chOff x="5268960" y="1947960"/>
            <a:chExt cx="3722760" cy="4168800"/>
          </a:xfrm>
        </p:grpSpPr>
        <p:sp>
          <p:nvSpPr>
            <p:cNvPr id="672" name="Rectangle 16"/>
            <p:cNvSpPr/>
            <p:nvPr/>
          </p:nvSpPr>
          <p:spPr>
            <a:xfrm>
              <a:off x="5268960" y="1947960"/>
              <a:ext cx="3722760" cy="4168800"/>
            </a:xfrm>
            <a:prstGeom prst="rect">
              <a:avLst/>
            </a:prstGeom>
            <a:solidFill>
              <a:srgbClr val="080808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3" name="Text Box 17"/>
            <p:cNvSpPr/>
            <p:nvPr/>
          </p:nvSpPr>
          <p:spPr>
            <a:xfrm>
              <a:off x="6562440" y="2013120"/>
              <a:ext cx="134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Rules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4" name="Text Box 18"/>
            <p:cNvSpPr/>
            <p:nvPr/>
          </p:nvSpPr>
          <p:spPr>
            <a:xfrm>
              <a:off x="5465520" y="3166920"/>
              <a:ext cx="344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+ve </a:t>
              </a:r>
              <a:r>
                <a:rPr b="0" lang="en-GB" sz="3600" spc="-1" strike="noStrike">
                  <a:solidFill>
                    <a:srgbClr val="ff0000"/>
                  </a:solidFill>
                  <a:latin typeface="Comic Sans MS"/>
                </a:rPr>
                <a:t>÷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-ve  = -ve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-ve </a:t>
              </a:r>
              <a:r>
                <a:rPr b="0" lang="en-GB" sz="3600" spc="-1" strike="noStrike">
                  <a:solidFill>
                    <a:srgbClr val="ff0000"/>
                  </a:solidFill>
                  <a:latin typeface="Comic Sans MS"/>
                </a:rPr>
                <a:t>÷</a:t>
              </a:r>
              <a:r>
                <a:rPr b="0" lang="en-GB" sz="3600" spc="-1" strike="noStrike">
                  <a:solidFill>
                    <a:srgbClr val="ffff00"/>
                  </a:solidFill>
                  <a:latin typeface="Comic Sans MS"/>
                </a:rPr>
                <a:t> +ve  = -ve</a:t>
              </a:r>
              <a:endParaRPr b="0" lang="en-US" sz="3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5" name="Text Box 20"/>
            <p:cNvSpPr/>
            <p:nvPr/>
          </p:nvSpPr>
          <p:spPr>
            <a:xfrm>
              <a:off x="5299560" y="2655720"/>
              <a:ext cx="36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Multiplying Integers 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76" name="Text Box 31"/>
          <p:cNvSpPr/>
          <p:nvPr/>
        </p:nvSpPr>
        <p:spPr>
          <a:xfrm>
            <a:off x="3769560" y="13842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vis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7" name="Text Box 32"/>
          <p:cNvSpPr/>
          <p:nvPr/>
        </p:nvSpPr>
        <p:spPr>
          <a:xfrm>
            <a:off x="5417280" y="473400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-ve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÷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-ve  = +v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+ve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÷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+ve  = +v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8" name="Rectangle 35"/>
          <p:cNvSpPr/>
          <p:nvPr/>
        </p:nvSpPr>
        <p:spPr>
          <a:xfrm>
            <a:off x="3615120" y="283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9" name="Rectangle 36"/>
          <p:cNvSpPr/>
          <p:nvPr/>
        </p:nvSpPr>
        <p:spPr>
          <a:xfrm>
            <a:off x="3265920" y="3463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0" name="Rectangle 37"/>
          <p:cNvSpPr/>
          <p:nvPr/>
        </p:nvSpPr>
        <p:spPr>
          <a:xfrm>
            <a:off x="3569040" y="4179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1" name="Rectangle 38"/>
          <p:cNvSpPr/>
          <p:nvPr/>
        </p:nvSpPr>
        <p:spPr>
          <a:xfrm>
            <a:off x="3748320" y="487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2" name="Cloud 36"/>
          <p:cNvSpPr/>
          <p:nvPr/>
        </p:nvSpPr>
        <p:spPr>
          <a:xfrm>
            <a:off x="698400" y="254160"/>
            <a:ext cx="2921040" cy="1295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member BODMA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8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7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7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8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4" dur="8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5" dur="8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1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911A-D7E3-4AE5-9D19-FCE75A21ADBE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5" name="Footer Placeholder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Created by Mr. Lafferty Maths Dept.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MIA Ex 8.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2 (page 31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88" name="Picture 4" descr="ag00463_"/>
          <p:cNvPicPr/>
          <p:nvPr/>
        </p:nvPicPr>
        <p:blipFill>
          <a:blip r:embed="rId2"/>
          <a:stretch/>
        </p:blipFill>
        <p:spPr>
          <a:xfrm>
            <a:off x="639720" y="3059280"/>
            <a:ext cx="3016440" cy="31003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scottishflag"/>
          <p:cNvPicPr/>
          <p:nvPr/>
        </p:nvPicPr>
        <p:blipFill>
          <a:blip r:embed="rId3"/>
          <a:stretch/>
        </p:blipFill>
        <p:spPr>
          <a:xfrm>
            <a:off x="1184400" y="7142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" descr="Office Objects 0572"/>
          <p:cNvPicPr/>
          <p:nvPr/>
        </p:nvPicPr>
        <p:blipFill>
          <a:blip r:embed="rId4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7"/>
          <p:cNvSpPr/>
          <p:nvPr/>
        </p:nvSpPr>
        <p:spPr>
          <a:xfrm rot="16200000">
            <a:off x="-1677240" y="41598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ww.mathsrevision.c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2" name="Rectangle 8"/>
          <p:cNvSpPr/>
          <p:nvPr/>
        </p:nvSpPr>
        <p:spPr>
          <a:xfrm>
            <a:off x="1938240" y="69228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3" name="Text Box 9"/>
          <p:cNvSpPr/>
          <p:nvPr/>
        </p:nvSpPr>
        <p:spPr>
          <a:xfrm>
            <a:off x="3832920" y="13842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vis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4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DB4D-C646-4259-A1D2-C992D5C0684B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113480" y="1976400"/>
            <a:ext cx="725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ition 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INTEGER is a negative or positiv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ole number, including 0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2967840" y="304308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.g.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2, -1, 0, 5, 10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993040" y="370368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te : -2.5, -1.2, 23.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6554160" y="373680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re NOT INTEGER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923760" y="4363920"/>
            <a:ext cx="80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down 3 places where negative numbers are us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Cloud 15"/>
          <p:cNvSpPr/>
          <p:nvPr/>
        </p:nvSpPr>
        <p:spPr>
          <a:xfrm>
            <a:off x="622440" y="304920"/>
            <a:ext cx="2565360" cy="92700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Cloud 16"/>
          <p:cNvSpPr/>
          <p:nvPr/>
        </p:nvSpPr>
        <p:spPr>
          <a:xfrm>
            <a:off x="5168880" y="419040"/>
            <a:ext cx="2565360" cy="92700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a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Cloud 17"/>
          <p:cNvSpPr/>
          <p:nvPr/>
        </p:nvSpPr>
        <p:spPr>
          <a:xfrm>
            <a:off x="990720" y="5092560"/>
            <a:ext cx="2565360" cy="92736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ordinate Gri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Cloud 18"/>
          <p:cNvSpPr/>
          <p:nvPr/>
        </p:nvSpPr>
        <p:spPr>
          <a:xfrm>
            <a:off x="5181480" y="5067360"/>
            <a:ext cx="2565360" cy="92700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fit and Los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179A-3248-4A13-99DE-065A1631D0F7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Oval 236"/>
          <p:cNvSpPr/>
          <p:nvPr/>
        </p:nvSpPr>
        <p:spPr>
          <a:xfrm>
            <a:off x="5435640" y="5943600"/>
            <a:ext cx="546120" cy="596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angle 177"/>
          <p:cNvSpPr/>
          <p:nvPr/>
        </p:nvSpPr>
        <p:spPr>
          <a:xfrm>
            <a:off x="5600880" y="74916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Rectangle 178"/>
          <p:cNvSpPr/>
          <p:nvPr/>
        </p:nvSpPr>
        <p:spPr>
          <a:xfrm>
            <a:off x="5600880" y="96516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Rectangle 179"/>
          <p:cNvSpPr/>
          <p:nvPr/>
        </p:nvSpPr>
        <p:spPr>
          <a:xfrm>
            <a:off x="5600880" y="118116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Rectangle 180"/>
          <p:cNvSpPr/>
          <p:nvPr/>
        </p:nvSpPr>
        <p:spPr>
          <a:xfrm>
            <a:off x="5600880" y="139716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Rectangle 181"/>
          <p:cNvSpPr/>
          <p:nvPr/>
        </p:nvSpPr>
        <p:spPr>
          <a:xfrm>
            <a:off x="5600880" y="161280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Rectangle 182"/>
          <p:cNvSpPr/>
          <p:nvPr/>
        </p:nvSpPr>
        <p:spPr>
          <a:xfrm>
            <a:off x="5600880" y="182880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Rectangle 183"/>
          <p:cNvSpPr/>
          <p:nvPr/>
        </p:nvSpPr>
        <p:spPr>
          <a:xfrm>
            <a:off x="5600880" y="204480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Rectangle 184"/>
          <p:cNvSpPr/>
          <p:nvPr/>
        </p:nvSpPr>
        <p:spPr>
          <a:xfrm>
            <a:off x="5600880" y="226044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Rectangle 185"/>
          <p:cNvSpPr/>
          <p:nvPr/>
        </p:nvSpPr>
        <p:spPr>
          <a:xfrm>
            <a:off x="5600880" y="24764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Rectangle 186"/>
          <p:cNvSpPr/>
          <p:nvPr/>
        </p:nvSpPr>
        <p:spPr>
          <a:xfrm>
            <a:off x="5600880" y="26924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Rectangle 187"/>
          <p:cNvSpPr/>
          <p:nvPr/>
        </p:nvSpPr>
        <p:spPr>
          <a:xfrm>
            <a:off x="5600880" y="29084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Rectangle 188"/>
          <p:cNvSpPr/>
          <p:nvPr/>
        </p:nvSpPr>
        <p:spPr>
          <a:xfrm>
            <a:off x="5600880" y="312408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204"/>
          <p:cNvSpPr/>
          <p:nvPr/>
        </p:nvSpPr>
        <p:spPr>
          <a:xfrm>
            <a:off x="5776560" y="2936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 Box 205"/>
          <p:cNvSpPr/>
          <p:nvPr/>
        </p:nvSpPr>
        <p:spPr>
          <a:xfrm>
            <a:off x="5337720" y="226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Group 241"/>
          <p:cNvGrpSpPr/>
          <p:nvPr/>
        </p:nvGrpSpPr>
        <p:grpSpPr>
          <a:xfrm>
            <a:off x="5185080" y="574560"/>
            <a:ext cx="1021320" cy="1879560"/>
            <a:chOff x="5185080" y="574560"/>
            <a:chExt cx="1021320" cy="1879560"/>
          </a:xfrm>
        </p:grpSpPr>
        <p:sp>
          <p:nvSpPr>
            <p:cNvPr id="139" name="Text Box 197"/>
            <p:cNvSpPr/>
            <p:nvPr/>
          </p:nvSpPr>
          <p:spPr>
            <a:xfrm>
              <a:off x="5185080" y="5745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Text Box 198"/>
            <p:cNvSpPr/>
            <p:nvPr/>
          </p:nvSpPr>
          <p:spPr>
            <a:xfrm>
              <a:off x="5763600" y="8031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1" name="Text Box 199"/>
            <p:cNvSpPr/>
            <p:nvPr/>
          </p:nvSpPr>
          <p:spPr>
            <a:xfrm>
              <a:off x="5185080" y="9810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Text Box 200"/>
            <p:cNvSpPr/>
            <p:nvPr/>
          </p:nvSpPr>
          <p:spPr>
            <a:xfrm>
              <a:off x="5794920" y="1666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Text Box 201"/>
            <p:cNvSpPr/>
            <p:nvPr/>
          </p:nvSpPr>
          <p:spPr>
            <a:xfrm>
              <a:off x="5794920" y="1222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" name="Text Box 202"/>
            <p:cNvSpPr/>
            <p:nvPr/>
          </p:nvSpPr>
          <p:spPr>
            <a:xfrm>
              <a:off x="5234400" y="1450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5" name="Text Box 203"/>
            <p:cNvSpPr/>
            <p:nvPr/>
          </p:nvSpPr>
          <p:spPr>
            <a:xfrm>
              <a:off x="5234400" y="1844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6" name="Text Box 206"/>
            <p:cNvSpPr/>
            <p:nvPr/>
          </p:nvSpPr>
          <p:spPr>
            <a:xfrm>
              <a:off x="5794920" y="2085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7" name="Text Box 207"/>
          <p:cNvSpPr/>
          <p:nvPr/>
        </p:nvSpPr>
        <p:spPr>
          <a:xfrm>
            <a:off x="5794920" y="2530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208"/>
          <p:cNvSpPr/>
          <p:nvPr/>
        </p:nvSpPr>
        <p:spPr>
          <a:xfrm>
            <a:off x="533772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Text Box 209"/>
          <p:cNvSpPr/>
          <p:nvPr/>
        </p:nvSpPr>
        <p:spPr>
          <a:xfrm>
            <a:off x="5247720" y="3178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Rectangle 210"/>
          <p:cNvSpPr/>
          <p:nvPr/>
        </p:nvSpPr>
        <p:spPr>
          <a:xfrm>
            <a:off x="5600880" y="33638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Rectangle 211"/>
          <p:cNvSpPr/>
          <p:nvPr/>
        </p:nvSpPr>
        <p:spPr>
          <a:xfrm>
            <a:off x="5600880" y="35798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Rectangle 212"/>
          <p:cNvSpPr/>
          <p:nvPr/>
        </p:nvSpPr>
        <p:spPr>
          <a:xfrm>
            <a:off x="5600880" y="379584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Rectangle 213"/>
          <p:cNvSpPr/>
          <p:nvPr/>
        </p:nvSpPr>
        <p:spPr>
          <a:xfrm>
            <a:off x="5600880" y="401148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Rectangle 214"/>
          <p:cNvSpPr/>
          <p:nvPr/>
        </p:nvSpPr>
        <p:spPr>
          <a:xfrm>
            <a:off x="5600880" y="422748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Rectangle 215"/>
          <p:cNvSpPr/>
          <p:nvPr/>
        </p:nvSpPr>
        <p:spPr>
          <a:xfrm>
            <a:off x="5600880" y="444348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Rectangle 216"/>
          <p:cNvSpPr/>
          <p:nvPr/>
        </p:nvSpPr>
        <p:spPr>
          <a:xfrm>
            <a:off x="5600880" y="465948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Rectangle 217"/>
          <p:cNvSpPr/>
          <p:nvPr/>
        </p:nvSpPr>
        <p:spPr>
          <a:xfrm>
            <a:off x="5600880" y="487512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Rectangle 218"/>
          <p:cNvSpPr/>
          <p:nvPr/>
        </p:nvSpPr>
        <p:spPr>
          <a:xfrm>
            <a:off x="5600880" y="509112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Rectangle 219"/>
          <p:cNvSpPr/>
          <p:nvPr/>
        </p:nvSpPr>
        <p:spPr>
          <a:xfrm>
            <a:off x="5600880" y="530712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Rectangle 220"/>
          <p:cNvSpPr/>
          <p:nvPr/>
        </p:nvSpPr>
        <p:spPr>
          <a:xfrm>
            <a:off x="5600880" y="5522760"/>
            <a:ext cx="228600" cy="241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Rectangle 221"/>
          <p:cNvSpPr/>
          <p:nvPr/>
        </p:nvSpPr>
        <p:spPr>
          <a:xfrm>
            <a:off x="5600880" y="5738760"/>
            <a:ext cx="228600" cy="241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 Box 229"/>
          <p:cNvSpPr/>
          <p:nvPr/>
        </p:nvSpPr>
        <p:spPr>
          <a:xfrm>
            <a:off x="5839200" y="3392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Text Box 230"/>
          <p:cNvSpPr/>
          <p:nvPr/>
        </p:nvSpPr>
        <p:spPr>
          <a:xfrm>
            <a:off x="5197320" y="40784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4" name="Group 242"/>
          <p:cNvGrpSpPr/>
          <p:nvPr/>
        </p:nvGrpSpPr>
        <p:grpSpPr>
          <a:xfrm>
            <a:off x="5018040" y="4281480"/>
            <a:ext cx="1348920" cy="1968480"/>
            <a:chOff x="5018040" y="4281480"/>
            <a:chExt cx="1348920" cy="1968480"/>
          </a:xfrm>
        </p:grpSpPr>
        <p:sp>
          <p:nvSpPr>
            <p:cNvPr id="165" name="Text Box 222"/>
            <p:cNvSpPr/>
            <p:nvPr/>
          </p:nvSpPr>
          <p:spPr>
            <a:xfrm>
              <a:off x="5018040" y="588168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12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6" name="Text Box 223"/>
            <p:cNvSpPr/>
            <p:nvPr/>
          </p:nvSpPr>
          <p:spPr>
            <a:xfrm>
              <a:off x="5851080" y="55260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11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7" name="Text Box 224"/>
            <p:cNvSpPr/>
            <p:nvPr/>
          </p:nvSpPr>
          <p:spPr>
            <a:xfrm>
              <a:off x="5018040" y="53481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8" name="Text Box 225"/>
            <p:cNvSpPr/>
            <p:nvPr/>
          </p:nvSpPr>
          <p:spPr>
            <a:xfrm>
              <a:off x="5883120" y="47260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9" name="Text Box 226"/>
            <p:cNvSpPr/>
            <p:nvPr/>
          </p:nvSpPr>
          <p:spPr>
            <a:xfrm>
              <a:off x="5895720" y="51325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0" name="Text Box 227"/>
            <p:cNvSpPr/>
            <p:nvPr/>
          </p:nvSpPr>
          <p:spPr>
            <a:xfrm>
              <a:off x="5081400" y="49291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1" name="Text Box 228"/>
            <p:cNvSpPr/>
            <p:nvPr/>
          </p:nvSpPr>
          <p:spPr>
            <a:xfrm>
              <a:off x="5119200" y="4497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2" name="Text Box 231"/>
            <p:cNvSpPr/>
            <p:nvPr/>
          </p:nvSpPr>
          <p:spPr>
            <a:xfrm>
              <a:off x="5895720" y="4281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73" name="Text Box 232"/>
          <p:cNvSpPr/>
          <p:nvPr/>
        </p:nvSpPr>
        <p:spPr>
          <a:xfrm>
            <a:off x="5883120" y="38498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233"/>
          <p:cNvSpPr/>
          <p:nvPr/>
        </p:nvSpPr>
        <p:spPr>
          <a:xfrm>
            <a:off x="5197320" y="3621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5" name="Group 254"/>
          <p:cNvGrpSpPr/>
          <p:nvPr/>
        </p:nvGrpSpPr>
        <p:grpSpPr>
          <a:xfrm>
            <a:off x="7581960" y="3429000"/>
            <a:ext cx="1448640" cy="1803240"/>
            <a:chOff x="7581960" y="3429000"/>
            <a:chExt cx="1448640" cy="1803240"/>
          </a:xfrm>
        </p:grpSpPr>
        <p:sp>
          <p:nvSpPr>
            <p:cNvPr id="176" name="Line 245"/>
            <p:cNvSpPr/>
            <p:nvPr/>
          </p:nvSpPr>
          <p:spPr>
            <a:xfrm>
              <a:off x="7581960" y="3429000"/>
              <a:ext cx="0" cy="1803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7" name="Text Box 246"/>
            <p:cNvSpPr/>
            <p:nvPr/>
          </p:nvSpPr>
          <p:spPr>
            <a:xfrm>
              <a:off x="7758720" y="411804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Negative -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78" name="Group 253"/>
          <p:cNvGrpSpPr/>
          <p:nvPr/>
        </p:nvGrpSpPr>
        <p:grpSpPr>
          <a:xfrm>
            <a:off x="7505640" y="2018880"/>
            <a:ext cx="1539360" cy="1422720"/>
            <a:chOff x="7505640" y="2018880"/>
            <a:chExt cx="1539360" cy="1422720"/>
          </a:xfrm>
        </p:grpSpPr>
        <p:sp>
          <p:nvSpPr>
            <p:cNvPr id="179" name="Line 243"/>
            <p:cNvSpPr/>
            <p:nvPr/>
          </p:nvSpPr>
          <p:spPr>
            <a:xfrm flipV="1">
              <a:off x="7569360" y="2018880"/>
              <a:ext cx="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0" name="Text Box 244"/>
            <p:cNvSpPr/>
            <p:nvPr/>
          </p:nvSpPr>
          <p:spPr>
            <a:xfrm>
              <a:off x="7840080" y="270828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Positive +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1" name="Oval 247"/>
            <p:cNvSpPr/>
            <p:nvPr/>
          </p:nvSpPr>
          <p:spPr>
            <a:xfrm>
              <a:off x="7505640" y="3314880"/>
              <a:ext cx="139680" cy="1267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82" name="Text Box 248"/>
          <p:cNvSpPr/>
          <p:nvPr/>
        </p:nvSpPr>
        <p:spPr>
          <a:xfrm>
            <a:off x="2192040" y="353376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2 &gt; 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249"/>
          <p:cNvSpPr/>
          <p:nvPr/>
        </p:nvSpPr>
        <p:spPr>
          <a:xfrm>
            <a:off x="2196360" y="435924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2 &gt; -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250"/>
          <p:cNvSpPr/>
          <p:nvPr/>
        </p:nvSpPr>
        <p:spPr>
          <a:xfrm>
            <a:off x="2189880" y="51847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4 &lt; -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Line 252"/>
          <p:cNvSpPr/>
          <p:nvPr/>
        </p:nvSpPr>
        <p:spPr>
          <a:xfrm>
            <a:off x="5829480" y="3365640"/>
            <a:ext cx="1638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Box 76"/>
          <p:cNvSpPr/>
          <p:nvPr/>
        </p:nvSpPr>
        <p:spPr>
          <a:xfrm>
            <a:off x="914760" y="1905120"/>
            <a:ext cx="38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ntegers can be represente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on a thermometer or number lin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1938240" y="743040"/>
            <a:ext cx="3230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Box 79"/>
          <p:cNvSpPr/>
          <p:nvPr/>
        </p:nvSpPr>
        <p:spPr>
          <a:xfrm>
            <a:off x="963360" y="2527200"/>
            <a:ext cx="38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he further to the top a number i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he bigger it i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Cloud Callout 80"/>
          <p:cNvSpPr/>
          <p:nvPr/>
        </p:nvSpPr>
        <p:spPr>
          <a:xfrm>
            <a:off x="469800" y="2781360"/>
            <a:ext cx="1638360" cy="838080"/>
          </a:xfrm>
          <a:prstGeom prst="cloudCallout">
            <a:avLst>
              <a:gd name="adj1" fmla="val 87231"/>
              <a:gd name="adj2" fmla="val 51893"/>
            </a:avLst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tha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Cloud Callout 81"/>
          <p:cNvSpPr/>
          <p:nvPr/>
        </p:nvSpPr>
        <p:spPr>
          <a:xfrm>
            <a:off x="546120" y="4444920"/>
            <a:ext cx="1638360" cy="838440"/>
          </a:xfrm>
          <a:prstGeom prst="cloudCallout">
            <a:avLst>
              <a:gd name="adj1" fmla="val 87231"/>
              <a:gd name="adj2" fmla="val 51893"/>
            </a:avLst>
          </a:prstGeom>
          <a:solidFill>
            <a:srgbClr val="00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ss tha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Text Box 250"/>
          <p:cNvSpPr/>
          <p:nvPr/>
        </p:nvSpPr>
        <p:spPr>
          <a:xfrm>
            <a:off x="1956240" y="57690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.5 &lt; -2.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BDBF-6DFA-438C-9973-067AB821E3B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2"/>
          <a:stretch/>
        </p:blipFill>
        <p:spPr>
          <a:xfrm>
            <a:off x="2577960" y="2684520"/>
            <a:ext cx="2832120" cy="2846160"/>
          </a:xfrm>
          <a:prstGeom prst="rect">
            <a:avLst/>
          </a:prstGeom>
          <a:ln w="0">
            <a:noFill/>
          </a:ln>
        </p:spPr>
      </p:pic>
      <p:sp>
        <p:nvSpPr>
          <p:cNvPr id="195" name="Line 9"/>
          <p:cNvSpPr/>
          <p:nvPr/>
        </p:nvSpPr>
        <p:spPr>
          <a:xfrm>
            <a:off x="2604960" y="4094280"/>
            <a:ext cx="31892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Line 10"/>
          <p:cNvSpPr/>
          <p:nvPr/>
        </p:nvSpPr>
        <p:spPr>
          <a:xfrm flipV="1">
            <a:off x="3965400" y="2476440"/>
            <a:ext cx="0" cy="31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4113360" y="4054320"/>
            <a:ext cx="26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646520" y="40543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4370400" y="40449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4937040" y="40449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3784680" y="394668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3594240" y="4473720"/>
            <a:ext cx="4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-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3710160" y="364824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3610080" y="417816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3684600" y="3070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697200" y="3355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Oval 21"/>
          <p:cNvSpPr/>
          <p:nvPr/>
        </p:nvSpPr>
        <p:spPr>
          <a:xfrm>
            <a:off x="2822400" y="4626000"/>
            <a:ext cx="88920" cy="88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2160" y="23050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Plot the poin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6855120" y="263520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(3,2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6867360" y="43308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(-2,2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Text Box 26"/>
          <p:cNvSpPr/>
          <p:nvPr/>
        </p:nvSpPr>
        <p:spPr>
          <a:xfrm>
            <a:off x="5428080" y="410688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x - ax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1474920" y="23162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y - ax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6131520" y="326232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x-coordinate is 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Text Box 29"/>
          <p:cNvSpPr/>
          <p:nvPr/>
        </p:nvSpPr>
        <p:spPr>
          <a:xfrm>
            <a:off x="6124320" y="373860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y-coordinate is 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1446840" y="388476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origi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3606840" y="472140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34"/>
          <p:cNvSpPr/>
          <p:nvPr/>
        </p:nvSpPr>
        <p:spPr>
          <a:xfrm>
            <a:off x="2538360" y="40514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35"/>
          <p:cNvSpPr/>
          <p:nvPr/>
        </p:nvSpPr>
        <p:spPr>
          <a:xfrm>
            <a:off x="3157560" y="40226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36"/>
          <p:cNvSpPr/>
          <p:nvPr/>
        </p:nvSpPr>
        <p:spPr>
          <a:xfrm>
            <a:off x="2871720" y="40323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Text Box 37"/>
          <p:cNvSpPr/>
          <p:nvPr/>
        </p:nvSpPr>
        <p:spPr>
          <a:xfrm>
            <a:off x="3438360" y="4041720"/>
            <a:ext cx="4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Oval 39"/>
          <p:cNvSpPr/>
          <p:nvPr/>
        </p:nvSpPr>
        <p:spPr>
          <a:xfrm>
            <a:off x="4797360" y="3495600"/>
            <a:ext cx="88920" cy="88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 Box 42"/>
          <p:cNvSpPr/>
          <p:nvPr/>
        </p:nvSpPr>
        <p:spPr>
          <a:xfrm>
            <a:off x="5560920" y="5297400"/>
            <a:ext cx="31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Plot the point that mak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hape a parallelogram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44"/>
          <p:cNvSpPr/>
          <p:nvPr/>
        </p:nvSpPr>
        <p:spPr>
          <a:xfrm>
            <a:off x="3282480" y="139068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ordinate Gri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879960" y="47372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(-4,-2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Straight Connector 47"/>
          <p:cNvSpPr/>
          <p:nvPr/>
        </p:nvSpPr>
        <p:spPr>
          <a:xfrm flipH="1" flipV="1">
            <a:off x="3460680" y="3536640"/>
            <a:ext cx="1324080" cy="3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Straight Connector 49"/>
          <p:cNvSpPr/>
          <p:nvPr/>
        </p:nvSpPr>
        <p:spPr>
          <a:xfrm flipH="1">
            <a:off x="2867040" y="3492360"/>
            <a:ext cx="574560" cy="113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Straight Connector 50"/>
          <p:cNvSpPr/>
          <p:nvPr/>
        </p:nvSpPr>
        <p:spPr>
          <a:xfrm flipH="1" flipV="1">
            <a:off x="2901960" y="4654080"/>
            <a:ext cx="1324080" cy="3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Oval 22"/>
          <p:cNvSpPr/>
          <p:nvPr/>
        </p:nvSpPr>
        <p:spPr>
          <a:xfrm>
            <a:off x="3384720" y="3492360"/>
            <a:ext cx="88560" cy="88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Straight Connector 52"/>
          <p:cNvSpPr/>
          <p:nvPr/>
        </p:nvSpPr>
        <p:spPr>
          <a:xfrm flipH="1">
            <a:off x="4238640" y="3568680"/>
            <a:ext cx="574560" cy="113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Oval 41"/>
          <p:cNvSpPr/>
          <p:nvPr/>
        </p:nvSpPr>
        <p:spPr>
          <a:xfrm>
            <a:off x="4229280" y="4622760"/>
            <a:ext cx="88560" cy="88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3056040" y="743040"/>
            <a:ext cx="3230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192A-2D89-4F4B-AD0A-775567BC6FBC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b7e7ff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 try Exercise 2.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2 (page 23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056040" y="743040"/>
            <a:ext cx="3230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83EF-0CE8-4CCA-8093-92F4247DD995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1072440" y="2139840"/>
            <a:ext cx="45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1.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Is 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7 + 6x2 = 26 or 1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1068120" y="2882880"/>
            <a:ext cx="614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2.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How many euros do I get for £10 if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xchange rate is £1 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1.4 €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101240" y="3908520"/>
            <a:ext cx="75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3.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he answer to the question is 30. What is th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ques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11C3-1AEA-4D21-9BA8-F258CEFC5F39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5029200" y="3025800"/>
            <a:ext cx="383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To be able to write down mathematically the addition and subtraction of both positive and negative integer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977760" y="30448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1.    To explain how to write down mathematically  addition and subtraction of negative integer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Negative Numb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2871360" y="13842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ddition &amp; Subtrac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245880" y="1290600"/>
            <a:ext cx="4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S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8:17:26Z</dcterms:created>
  <dc:creator>Bernie Lafferty</dc:creator>
  <dc:description/>
  <dc:language>en-US</dc:language>
  <cp:lastModifiedBy>EST</cp:lastModifiedBy>
  <dcterms:modified xsi:type="dcterms:W3CDTF">2009-05-25T13:58:36Z</dcterms:modified>
  <cp:revision>63</cp:revision>
  <dc:subject/>
  <dc:title>Slide 1</dc:title>
</cp:coreProperties>
</file>